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847D-1364-42F6-94E4-823E951D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E4C8-F516-46AA-A15C-41B6F3B6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2C05-58FF-465D-AE50-4CA6090E2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7DBD-E8DF-4746-9D8B-874C34C2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062E-833E-40E5-B883-D2A78ABF8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5E33-C1D5-402C-9AD6-74A35758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AF01-4B4F-4777-AB83-3863202C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D647-B9D3-4A9A-A87A-1A00D3F5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8F17-CB15-43E4-AF22-47DC1C8D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12C4-4FA1-4DE3-A686-2F0C65B5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C758-DEFD-4F61-92D0-38CACA0D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0387-BCD9-41CE-805C-56EEB3E4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6B6D-91D8-45E4-AE2D-0FF804CB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C251-6DE3-4B1A-8A85-4EF81CA3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4CC9-BC38-4093-B679-4C19E56B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EDB3-D2B3-4DFA-9CBC-C9C1F8CB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B4E4-4D82-482B-B80A-F16F6FC2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C6C4-8A20-4EF2-A8FC-3ECF655F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F5C2-C1A2-4A7A-9AC5-179CFA99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D7C2-45D4-4FF7-8AF6-E7ED0CA8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D320-2FB3-4789-885D-378244B5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8966-EE43-4715-BDB3-89632587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10F1-4F1D-4816-B0E9-A7823EF4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9621-DCF0-46F9-B736-828A4C50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A153-1CA6-42A3-A67F-6DD10125DEA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15CB-5726-4205-A5AE-732776CD05D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Lorenza%20action%20research%20Al%20Bayan%20SEC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Course:</a:t>
            </a:r>
            <a:br>
              <a:rPr sz="5000"/>
            </a:b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Fundamentals of Research</a:t>
            </a:r>
            <a:endParaRPr b="1" lang="en-US" sz="5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rt IV: Dissemination: Reporting Resear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orkshop 1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urpose of research report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imitation of the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he research can be the base for other resear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focus of the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significance of the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..\Lorenza action research Al Bayan SE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structure and organization of repor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ritten as last part but after title in impagi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ture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 and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and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and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at of a repor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-410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port must be organized in a way that one part lead to the other and it is easy for the reader to understand and follow the research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layout: Cover (title, date, place), page numbers, table of content, consistency in headings (1,2,3..) (font, size, style), headings 1 or new chapter always in a new page, don’t leave orphan or widow lines, IBC model, correct bibliograp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0066"/>
                </a:solidFill>
                <a:latin typeface="Arial"/>
              </a:rPr>
              <a:t>Thank you</a:t>
            </a:r>
            <a:endParaRPr b="1" lang="en-US" sz="6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Different ways of reporting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Purpose of the research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Organization and structure of a written research repo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Writing a research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Using technology to report a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900" spc="-1" strike="noStrike">
                <a:solidFill>
                  <a:srgbClr val="330066"/>
                </a:solidFill>
                <a:latin typeface="Arial"/>
              </a:rPr>
              <a:t>Different ways of reporting resear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deo documentary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o documentary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l Written repo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wer Point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ideo documentary repor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00040" y="18568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a very attractive way to present finding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 can show the process of the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it would need some explana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can be dispersive and not let audience focus on the find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0066"/>
                </a:solidFill>
                <a:latin typeface="Arial"/>
              </a:rPr>
              <a:t>Audio  documentary repor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It can be use  to report a story summary of the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Useful when some interesting data came up in interviews where to listen to the answer can clarify the interpretation of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It can be converted to a pod cast so the listener can take it with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al written repor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ually it fits more to long scientific researches published on scientific journals and magaz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cuments can be included as evid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it can also be used, formatted in a simple way as completion of a power-point present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wer Point presen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useful to present findings face to f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presents just the main ideas (usually followed by a written repor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allows interaction between presenter and aud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at of the presentation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KISS meth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de background and lay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ust headings on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dy language, tone of vo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of sp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me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nt: style, size, consistenc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urpose of research report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tell how the idea came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search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ethods used to collect primary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secondary data were collec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ethod used to analyz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enefits of the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ort, discuss findings and how they can be appli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6:26:51Z</dcterms:created>
  <dc:creator>user</dc:creator>
  <dc:description/>
  <dc:language>en-US</dc:language>
  <cp:lastModifiedBy>Lorenza Innocenti</cp:lastModifiedBy>
  <dcterms:modified xsi:type="dcterms:W3CDTF">2008-06-02T08:57:15Z</dcterms:modified>
  <cp:revision>98</cp:revision>
  <dc:subject/>
  <dc:title>Course: Fundamentals of Research</dc:title>
</cp:coreProperties>
</file>